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8CA5-2693-487A-A281-3AC78462FDD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8FC9-2F05-49F9-B91B-E883ACA80D0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A97-85C7-49BE-AC71-3B2F1452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DA7-0932-4609-BB8C-206593D7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871-85FA-4F94-AB1F-B174C70D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326-2961-4D25-80F8-3BE48256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7CEF-EC4F-4A7D-9FB2-B02DA4D1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0580-C211-4664-BC48-1093713B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D195-01D1-41C4-AC49-988BD6B1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CECA-BBB5-449E-9911-877C021E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3A9D-36E7-4B93-995A-AA11C5D6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4C82-3FA7-498B-9AC8-3E5A4FC6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9860-9DB3-48FF-9346-3A56D2AE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169-05A0-4FE5-A3D7-B5B13B81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1223-EB6D-4CF1-879A-FA95D791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98BF-D047-4392-8C77-91C6E56F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535B-C679-497D-BF6E-54142ED6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FFF2-5119-4A04-B3CD-23B08D09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5284-C632-4C83-820E-E77761CE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804AD-A916-4727-A6B7-E9A05512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ABE8-134A-4267-8930-EAF5AB94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89FE-74EB-479C-A17F-D7412BA3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99C6-7D26-4485-ABE3-0ED7A50F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3C88-8D35-4C63-8264-C472F875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18A-2FFA-4799-AF0D-6ACB1FC7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D6C0-F25C-4363-8675-2940EF2F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3B3C7-76A4-4EB0-99BA-0985298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59E5-81A3-4BB7-91DE-D1E6A179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6065-ACD5-4A0D-AB52-746A0CDD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BE85-17E0-4937-B3A1-A43C42B6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BDA3-8BD1-4E2A-8667-E4E576C0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359C-66DF-4072-9960-ED5A1E73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8CE30-B12F-4765-A29E-5044A937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8C2D6-46BC-4A8C-A88A-7F824369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58EBB-2A4A-49D7-B145-608D90EA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79C-2314-4716-BB9B-C49D3B54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F3C1-C2CA-4EAD-8BCD-05DFA83D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E43F-E593-4E40-9A65-2E88265F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E3BA7-51DC-4384-8EE8-39AD20FD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C0D88-9FEA-4DDA-A011-C5960BA2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5C8F2-F674-48D4-AF85-DAD92AB6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19324-AABC-42BD-AD62-7B1896A3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2B29-37FF-43F2-8576-7E2B5F1D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29EE6-6678-480A-84D6-91E72680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7A683-2B41-4E3D-A578-183F06A9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65B72-7762-4C99-A6D2-550321C5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E58-BE1C-4908-8363-6A405BEE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3672D-A114-4C86-A691-2C7AE163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44975-1944-44AE-9283-0B1D215C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56028-5BB6-46F6-AE6E-6599A7D9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731C1-0E27-4389-A397-DB7DC8DF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36C35-1A78-4F1C-A93C-EDC4ABBB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8B94C-DAC7-4AB3-A903-B345DBD7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6EA5C-2BBB-4C1E-8C38-878E9F8E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47070-AD81-46C3-9673-0B726A23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E6688-3DC3-4EA7-BE93-64FE2179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4F4BF-7344-4F10-BA89-E1732A9B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BF5-DCAA-40E5-ABBC-99F2F3AE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4C0F5-593D-4704-B234-0FD3405D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A98DC-E7DD-448E-90E5-41F40FCF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6369A-2FFD-4371-91C4-26EA6699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D3ABD-9DC8-4F91-8527-6ED31A69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C5F59-5568-4F6D-A766-CF85F2BF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1A6ED-12A8-470C-B188-E9460267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E67C2-CC5B-4CFE-A99B-7EE6E3D2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C38BA-BE6B-4EF9-A562-7CB67016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69316-910F-4C6A-A73F-40512C56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1333E-88E7-4818-AF52-6890A0C0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003-BDEF-4BA2-BFE2-6428A3D8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07294-FED4-4BB8-AE38-14B71054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AEE36-C1D8-4998-AC8A-62CD7642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9C6FB-4DE5-40D0-B19F-36AA4D4A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C7B1C-8D11-4735-991E-FBEDEE98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7BBC2-BA73-4D0A-A64E-AEAF2C66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72977-2628-42A7-81C2-AB696DFC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6882A-E589-42F8-A746-ED794968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51ADD-F063-4E3F-B8C2-0C724C57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4419A-BCFA-447F-A9DA-EAF455E8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67E50-CDAC-4D4A-B8E7-96878E13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F2F-FF4E-4822-9977-8251C9FC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670F4-86D4-413E-A716-65EE6B7C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8A316-F965-4F51-ACF0-6AB6F3AD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BE303-644D-46CF-B476-F9C4DD78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CF2FA-C5E8-4909-B27F-5B1B8E86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BE5DC-C51E-42AE-BEAF-8410C76C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61DCE-B0A2-4B52-B7E9-44E9040E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33C94-4B39-4DC4-B1CB-BED4739D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49C6F-FF06-48D6-BEFB-9C7385BF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B790C-B6D5-4751-965F-3D9817B2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B48F6-74AF-4CCC-9B5F-F1E9F6A7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006-29C8-4CB6-B8E8-48C29449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F60E0-47C4-46AA-A4A5-B5622905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EA77E-C895-4F84-91A7-617C9239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DA06D-DCA1-4C6B-8661-9D7CA3B3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6AC44-CA0B-4B4F-A404-71D4207D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B33D9-7FAD-4D81-BF88-549476C1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17EA0-8781-437E-B462-E41D13AC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A3F3B-2B1C-419C-8276-ADF6DD34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3A8E-0295-4E02-AAB1-1FCFA5214C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2EF4-3DDE-42F7-A9FC-56E274EC26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60A0-39F6-4194-A717-2C8606E0E6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E566-0F68-4233-9C08-E9665A0ED4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7598-2881-4FBE-9B15-75872A9CB6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665A-A592-4488-A1C6-5A6549CA0B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60B8-3FB5-4F69-9E03-A783B5343B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8C68-6E23-484D-A364-60D46C32BB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390680"/>
            <a:ext cx="7826400" cy="2529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464646"/>
                </a:solidFill>
                <a:latin typeface="Lucida Sans Unicode"/>
              </a:rPr>
              <a:t>1 St. Paul Stree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464646"/>
                </a:solidFill>
                <a:latin typeface="Lucida Sans Unicode"/>
              </a:rPr>
              <a:t>St. Catharines, Ontari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464646"/>
                </a:solidFill>
                <a:latin typeface="Lucida Sans Unicode"/>
              </a:rPr>
              <a:t>905-641-2252, ext 466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19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0810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Funded by MTCU, Employment Ontario to deliver employment services to the unemploy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9 full service delivery providers across Niagara Reg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cludes 5 main area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Client Service Planning Coordin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Resource and Information Cent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Job Sear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Job Matching, Placement and Incent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Job Reten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ther Employment progra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700" spc="-1" strike="noStrike">
                <a:solidFill>
                  <a:srgbClr val="000000"/>
                </a:solidFill>
                <a:latin typeface="Lucida Sans Unicode"/>
              </a:rPr>
              <a:t>EI status does not determine eligibility for any component of serv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SPC ensures that individuals will have access to the services they need to achieve career and employment go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SPC integrated into all ES components...evolving process...needs do not always reveal themselves at the beginning...emerges throughout the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vailable to everyone: employed, unemployed, underemployed, job seekers, students, employ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fers the information and resources necessary to support ones job search and human resource nee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fers computers, fax machine, phone, information on training, resume writing, job board,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520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argeted for unemployed, out of school and legally entitled to work in Can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Job Searc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45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Individual assistance in establishing an occupational goal, development of a service plan with steps required to meet their training/employment goals and conduct their own job sear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ssistance in looking at training options and applying for Second Career fun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ssessments to determine areas of strength, interests, aptitu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Matching unemployed clients with suitable employ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For individuals who may have barriers to employ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fering financial incentive to employers to help offset costs of trai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roviding mentoring and coaching support during and after the plac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3 providers in Niaga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42 week support for those who wish to start their own busi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Must be EI attach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Currently on E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On regular EI claim within last 36 month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On parental/maternity benefits within last 60 month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3217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all or visit any Employment Ontario service site for further information or assistan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457200" y="77472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6:40:23Z</dcterms:created>
  <dc:creator>REFIERIMONTE</dc:creator>
  <dc:description/>
  <dc:language>en-US</dc:language>
  <cp:lastModifiedBy>aholmes</cp:lastModifiedBy>
  <dcterms:modified xsi:type="dcterms:W3CDTF">2011-07-08T18:46:51Z</dcterms:modified>
  <cp:revision>11</cp:revision>
  <dc:subject/>
  <dc:title>Niagara College Employment and Training Solutions</dc:title>
</cp:coreProperties>
</file>